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jpeg" ContentType="image/jpeg"/>
  <Override PartName="/ppt/media/image25.jpeg" ContentType="image/jpeg"/>
  <Override PartName="/ppt/media/image21.jpeg" ContentType="image/jpeg"/>
  <Override PartName="/ppt/media/image19.jpeg" ContentType="image/jpeg"/>
  <Override PartName="/ppt/media/image18.jpeg" ContentType="image/jpeg"/>
  <Override PartName="/ppt/media/image26.png" ContentType="image/png"/>
  <Override PartName="/ppt/media/image17.jpeg" ContentType="image/jpeg"/>
  <Override PartName="/ppt/media/image11.jpeg" ContentType="image/jpeg"/>
  <Override PartName="/ppt/media/image10.jpeg" ContentType="image/jpeg"/>
  <Override PartName="/ppt/media/image29.jpeg" ContentType="image/jpeg"/>
  <Override PartName="/ppt/media/image6.png" ContentType="image/png"/>
  <Override PartName="/ppt/media/image14.jpeg" ContentType="image/jpeg"/>
  <Override PartName="/ppt/media/image8.png" ContentType="image/png"/>
  <Override PartName="/ppt/media/image13.png" ContentType="image/png"/>
  <Override PartName="/ppt/media/image20.jpeg" ContentType="image/jpeg"/>
  <Override PartName="/ppt/media/push.wav" ContentType="audio/x-wav"/>
  <Override PartName="/ppt/media/image2.jpeg" ContentType="image/jpeg"/>
  <Override PartName="/ppt/media/image12.png" ContentType="image/png"/>
  <Override PartName="/ppt/media/image23.jpeg" ContentType="image/jpeg"/>
  <Override PartName="/ppt/media/image31.jpeg" ContentType="image/jpeg"/>
  <Override PartName="/ppt/media/image32.jpeg" ContentType="image/jpeg"/>
  <Override PartName="/ppt/media/image5.jpeg" ContentType="image/jpeg"/>
  <Override PartName="/ppt/media/image33.jpeg" ContentType="image/jpeg"/>
  <Override PartName="/ppt/media/image34.jpeg" ContentType="image/jpeg"/>
  <Override PartName="/ppt/media/image35.gif" ContentType="image/gif"/>
  <Override PartName="/ppt/media/image28.png" ContentType="image/png"/>
  <Override PartName="/ppt/media/image7.jpeg" ContentType="image/jpeg"/>
  <Override PartName="/ppt/media/image4.png" ContentType="image/png"/>
  <Override PartName="/ppt/media/image30.png" ContentType="image/png"/>
  <Override PartName="/ppt/media/image3.jpeg" ContentType="image/jpeg"/>
  <Override PartName="/ppt/media/image24.jpeg" ContentType="image/jpeg"/>
  <Override PartName="/ppt/media/image1.jpeg" ContentType="image/jpeg"/>
  <Override PartName="/ppt/media/image22.jpeg" ContentType="image/jpeg"/>
  <Override PartName="/ppt/media/image9.png" ContentType="image/png"/>
  <Override PartName="/ppt/media/image15.jpeg" ContentType="image/jpeg"/>
  <Override PartName="/ppt/media/image1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35D15-873C-41F6-BD27-0B50DA623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44200" y="-276840"/>
            <a:ext cx="579132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381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6840" y="3889080"/>
            <a:ext cx="8381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96F7B-DDBB-4F26-A7AE-F33B84D18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44200" y="-276840"/>
            <a:ext cx="579132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52000" y="114264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6840" y="388908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52000" y="388908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9CF87-8533-4B56-A697-225F34469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744200" y="-276840"/>
            <a:ext cx="579132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2698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90760" y="1142640"/>
            <a:ext cx="2698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4680" y="1142640"/>
            <a:ext cx="2698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6840" y="3889080"/>
            <a:ext cx="2698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90760" y="3889080"/>
            <a:ext cx="2698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4680" y="3889080"/>
            <a:ext cx="2698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D5A74-80AE-4642-B678-7A2ED18D0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8ACF3-3ADD-4318-965A-7179E89D7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44200" y="-276840"/>
            <a:ext cx="579132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6840" y="114264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4490C-2CEE-424C-B0A5-847549609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44200" y="-276840"/>
            <a:ext cx="579132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43C6C-DE03-4141-8BAB-438A8AABB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44200" y="-276840"/>
            <a:ext cx="579132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4090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52000" y="1142640"/>
            <a:ext cx="4090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3C3BE-8B02-492D-9DF4-7D5381973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44200" y="-276840"/>
            <a:ext cx="579132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1FA97-C58B-4595-AA2B-625F1C316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744200" y="-276840"/>
            <a:ext cx="5791320" cy="552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17ADD-289B-4717-B59D-4245459EF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44200" y="-276840"/>
            <a:ext cx="579132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52000" y="1142640"/>
            <a:ext cx="4090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6840" y="388908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8E736-5B23-4098-A3C0-5DF181180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44200" y="-276840"/>
            <a:ext cx="579132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6840" y="114264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57E37-5114-4B2F-A319-D96CD52F7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44200" y="-276840"/>
            <a:ext cx="579132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4090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52000" y="114264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52000" y="388908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938C1-5D4B-408D-B75E-5927189F2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44200" y="-276840"/>
            <a:ext cx="579132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52000" y="114264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3889080"/>
            <a:ext cx="8381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9E91E-B585-4E08-90E2-1F790C29D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44200" y="-276840"/>
            <a:ext cx="579132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381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6840" y="3889080"/>
            <a:ext cx="8381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D00F3-F362-48F8-8F56-C4DF73697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44200" y="-276840"/>
            <a:ext cx="579132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52000" y="114264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6840" y="388908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52000" y="388908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D3323-D3FC-41A7-BA38-84C46EF90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744200" y="-276840"/>
            <a:ext cx="579132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2698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90760" y="1142640"/>
            <a:ext cx="2698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4680" y="1142640"/>
            <a:ext cx="2698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6840" y="3889080"/>
            <a:ext cx="2698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90760" y="3889080"/>
            <a:ext cx="2698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4680" y="3889080"/>
            <a:ext cx="2698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5BA03-D527-4ED3-A9FF-9CA77C0AC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44200" y="-276840"/>
            <a:ext cx="579132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FAEE9-C30B-4EE8-85D3-5CC1D042C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44200" y="-276840"/>
            <a:ext cx="579132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4090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52000" y="1142640"/>
            <a:ext cx="4090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C3224-D933-4CB1-8614-1380B48A6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44200" y="-276840"/>
            <a:ext cx="579132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90D6D-9EB8-42FA-B228-3A0FA6577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744200" y="-276840"/>
            <a:ext cx="5791320" cy="552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7E36C-C242-427A-B086-F0CA697B4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44200" y="-276840"/>
            <a:ext cx="579132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52000" y="1142640"/>
            <a:ext cx="4090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6840" y="388908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67915-9A66-443B-AF1A-D14984937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744200" y="-276840"/>
            <a:ext cx="579132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4090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52000" y="114264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52000" y="388908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BAE0A-A747-4EE8-9E68-C1888020A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744200" y="-276840"/>
            <a:ext cx="579132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52000" y="114264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6840" y="3889080"/>
            <a:ext cx="8381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3A633-6B5F-4469-AB14-EE8DFC618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76320"/>
            <a:ext cx="8991360" cy="6629400"/>
          </a:xfrm>
          <a:prstGeom prst="roundRect">
            <a:avLst>
              <a:gd name="adj" fmla="val 7912"/>
            </a:avLst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228600" y="685800"/>
            <a:ext cx="8740800" cy="586728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447920" y="233280"/>
            <a:ext cx="6384960" cy="750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744200" y="-276840"/>
            <a:ext cx="579132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6840" y="114264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90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901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901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90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90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AC072-32DA-4A53-88E8-3DF17D2F733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i="1" lang="en-US" sz="4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857640" y="639144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0ABE8-0BCC-4832-B84D-F35D7E9D21A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1" marL="397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795240" algn="ctr">
              <a:spcBef>
                <a:spcPts val="90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193040" algn="ctr">
              <a:spcBef>
                <a:spcPts val="901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1590840" algn="ctr">
              <a:spcBef>
                <a:spcPts val="901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5" marL="1590840">
              <a:spcBef>
                <a:spcPts val="90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6" marL="1590840">
              <a:spcBef>
                <a:spcPts val="90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" Target="slide18.xml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6.xml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" Target="slide4.xml"/><Relationship Id="rId6" Type="http://schemas.openxmlformats.org/officeDocument/2006/relationships/slide" Target="slide8.xml"/><Relationship Id="rId7" Type="http://schemas.openxmlformats.org/officeDocument/2006/relationships/slide" Target="slide10.xml"/><Relationship Id="rId8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22.jpeg"/><Relationship Id="rId3" Type="http://schemas.openxmlformats.org/officeDocument/2006/relationships/audio" Target="../media/push.wav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7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gif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" Target="slide8.xml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slide2.xml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0360" y="1446840"/>
            <a:ext cx="7086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>
                <a:solidFill>
                  <a:srgbClr val="336666"/>
                </a:solidFill>
                <a:latin typeface="黑体"/>
              </a:rPr>
              <a:t>第三单元  统一国家的建立</a:t>
            </a:r>
            <a:endParaRPr b="0" i="1" lang="en-US" sz="4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752120" y="3504960"/>
            <a:ext cx="54104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黑体"/>
              </a:rPr>
              <a:t>第</a:t>
            </a:r>
            <a:r>
              <a:rPr b="0" lang="zh-CN" sz="5400" spc="-1" strike="noStrike">
                <a:solidFill>
                  <a:srgbClr val="000000"/>
                </a:solidFill>
                <a:latin typeface="黑体"/>
              </a:rPr>
              <a:t>13</a:t>
            </a:r>
            <a:r>
              <a:rPr b="0" lang="zh-CN" sz="5400" spc="-1" strike="noStrike">
                <a:solidFill>
                  <a:srgbClr val="000000"/>
                </a:solidFill>
                <a:latin typeface="黑体"/>
              </a:rPr>
              <a:t>课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黑体"/>
              </a:rPr>
              <a:t>两汉经济的发展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995640" cy="5373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130" name=""/>
          <p:cNvGrpSpPr/>
          <p:nvPr/>
        </p:nvGrpSpPr>
        <p:grpSpPr>
          <a:xfrm>
            <a:off x="4932360" y="0"/>
            <a:ext cx="4038120" cy="5427360"/>
            <a:chOff x="4932360" y="0"/>
            <a:chExt cx="4038120" cy="5427360"/>
          </a:xfrm>
        </p:grpSpPr>
        <p:pic>
          <p:nvPicPr>
            <p:cNvPr id="131" name="" descr=""/>
            <p:cNvPicPr/>
            <p:nvPr/>
          </p:nvPicPr>
          <p:blipFill>
            <a:blip r:embed="rId2"/>
            <a:stretch/>
          </p:blipFill>
          <p:spPr>
            <a:xfrm>
              <a:off x="4932360" y="0"/>
              <a:ext cx="4038120" cy="53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"/>
            <p:cNvSpPr/>
            <p:nvPr/>
          </p:nvSpPr>
          <p:spPr>
            <a:xfrm>
              <a:off x="4932360" y="4967640"/>
              <a:ext cx="3961440" cy="45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ccc99"/>
                  </a:solidFill>
                  <a:latin typeface="Times New Roman"/>
                  <a:ea typeface="隶书"/>
                </a:rPr>
                <a:t>西汉的耧车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1187280" y="5516640"/>
            <a:ext cx="691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它大大地加快了播种的速度，提高了播种质量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04000" cy="6481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5" name=""/>
          <p:cNvSpPr/>
          <p:nvPr/>
        </p:nvSpPr>
        <p:spPr>
          <a:xfrm>
            <a:off x="6948360" y="0"/>
            <a:ext cx="219564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3366"/>
                </a:solidFill>
                <a:latin typeface="黑体"/>
                <a:ea typeface="黑体"/>
              </a:rPr>
              <a:t>这是四川成都市郊出土的采桑画像砖的拓片摹本；画面表现一个妇女手执长竿，正在采桑叶的情景。</a:t>
            </a:r>
            <a:r>
              <a:rPr b="1" lang="zh-CN" sz="2400" spc="-1" strike="noStrike">
                <a:solidFill>
                  <a:srgbClr val="663366"/>
                </a:solidFill>
                <a:latin typeface="黑体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582640" y="271800"/>
            <a:ext cx="38941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6666"/>
                </a:solidFill>
                <a:latin typeface="Arial Black"/>
              </a:rPr>
              <a:t>二、手工业的兴盛</a:t>
            </a:r>
            <a:endParaRPr b="0" lang="en-US" sz="36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1186200"/>
            <a:ext cx="243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6666"/>
                </a:solidFill>
                <a:latin typeface="黑体"/>
                <a:ea typeface="黑体"/>
              </a:rPr>
              <a:t>1</a:t>
            </a:r>
            <a:r>
              <a:rPr b="0" lang="zh-CN" sz="3600" spc="-1" strike="noStrike">
                <a:solidFill>
                  <a:srgbClr val="336666"/>
                </a:solidFill>
                <a:latin typeface="黑体"/>
                <a:ea typeface="黑体"/>
              </a:rPr>
              <a:t>、丝织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962000"/>
            <a:ext cx="3270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提花机的使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>
            <a:hlinkClick r:id="rId1" action="ppaction://hlinksldjump"/>
          </p:cNvPr>
          <p:cNvSpPr/>
          <p:nvPr/>
        </p:nvSpPr>
        <p:spPr>
          <a:xfrm>
            <a:off x="1281600" y="2736720"/>
            <a:ext cx="16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000000"/>
                </a:solidFill>
                <a:uFillTx/>
                <a:latin typeface="Arial"/>
                <a:ea typeface="黑体"/>
              </a:rPr>
              <a:t>染色技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3510360"/>
            <a:ext cx="243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6666"/>
                </a:solidFill>
                <a:latin typeface="黑体"/>
                <a:ea typeface="黑体"/>
              </a:rPr>
              <a:t>2</a:t>
            </a:r>
            <a:r>
              <a:rPr b="0" lang="zh-CN" sz="3600" spc="-1" strike="noStrike">
                <a:solidFill>
                  <a:srgbClr val="336666"/>
                </a:solidFill>
                <a:latin typeface="黑体"/>
                <a:ea typeface="黑体"/>
              </a:rPr>
              <a:t>、冶铁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464480" y="4286160"/>
            <a:ext cx="216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水排的发明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160160" y="4267080"/>
            <a:ext cx="467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杜诗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(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东汉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)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早欧洲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千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647360" y="5060880"/>
            <a:ext cx="271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铁器逐步取代青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373040" y="5835600"/>
            <a:ext cx="189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钢材的出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8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3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5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0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5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0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734920" y="271800"/>
            <a:ext cx="3436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6666"/>
                </a:solidFill>
                <a:latin typeface="Arial Black"/>
              </a:rPr>
              <a:t>三、商业的繁荣</a:t>
            </a:r>
            <a:endParaRPr b="0" lang="en-US" sz="36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46" name=""/>
          <p:cNvSpPr/>
          <p:nvPr/>
        </p:nvSpPr>
        <p:spPr>
          <a:xfrm>
            <a:off x="1393200" y="1141920"/>
            <a:ext cx="356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6666"/>
                </a:solidFill>
                <a:latin typeface="黑体"/>
                <a:ea typeface="黑体"/>
              </a:rPr>
              <a:t>1</a:t>
            </a:r>
            <a:r>
              <a:rPr b="0" lang="zh-CN" sz="3600" spc="-1" strike="noStrike">
                <a:solidFill>
                  <a:srgbClr val="336666"/>
                </a:solidFill>
                <a:latin typeface="黑体"/>
                <a:ea typeface="黑体"/>
              </a:rPr>
              <a:t>、经济的统一（汉武帝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14400" y="1828800"/>
            <a:ext cx="64706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铸币权与盐铁经营权收归中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464480" y="2503440"/>
            <a:ext cx="216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钱币：五铢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57200" y="3164400"/>
            <a:ext cx="32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6666"/>
                </a:solidFill>
                <a:latin typeface="黑体"/>
                <a:ea typeface="黑体"/>
              </a:rPr>
              <a:t>2</a:t>
            </a:r>
            <a:r>
              <a:rPr b="0" lang="zh-CN" sz="3600" spc="-1" strike="noStrike">
                <a:solidFill>
                  <a:srgbClr val="336666"/>
                </a:solidFill>
                <a:latin typeface="黑体"/>
                <a:ea typeface="黑体"/>
              </a:rPr>
              <a:t>、城市的繁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373040" y="3816360"/>
            <a:ext cx="189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长安与洛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6681" t="6681" r="6681" b="3327"/>
          <a:stretch/>
        </p:blipFill>
        <p:spPr>
          <a:xfrm>
            <a:off x="4932360" y="2492280"/>
            <a:ext cx="1700280" cy="176544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357200" y="4473720"/>
            <a:ext cx="1143000" cy="685800"/>
          </a:xfrm>
          <a:prstGeom prst="rect">
            <a:avLst/>
          </a:prstGeom>
          <a:solidFill>
            <a:srgbClr val="cc99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农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735200" y="5192640"/>
            <a:ext cx="317520" cy="609840"/>
          </a:xfrm>
          <a:prstGeom prst="downArrow">
            <a:avLst>
              <a:gd name="adj1" fmla="val 62500"/>
              <a:gd name="adj2" fmla="val 1093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426680" y="5844600"/>
            <a:ext cx="1003680" cy="642600"/>
          </a:xfrm>
          <a:prstGeom prst="rect">
            <a:avLst/>
          </a:prstGeom>
          <a:solidFill>
            <a:srgbClr val="cc99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手工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435920" y="5135040"/>
            <a:ext cx="729360" cy="642600"/>
          </a:xfrm>
          <a:prstGeom prst="rect">
            <a:avLst/>
          </a:prstGeom>
          <a:solidFill>
            <a:srgbClr val="cc99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商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592360" y="4834080"/>
            <a:ext cx="1548000" cy="1366200"/>
            <a:chOff x="2592360" y="4834080"/>
            <a:chExt cx="1548000" cy="1366200"/>
          </a:xfrm>
        </p:grpSpPr>
        <p:sp>
          <p:nvSpPr>
            <p:cNvPr id="157" name=""/>
            <p:cNvSpPr/>
            <p:nvPr/>
          </p:nvSpPr>
          <p:spPr>
            <a:xfrm>
              <a:off x="2592360" y="4834080"/>
              <a:ext cx="828720" cy="6109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V="1">
              <a:off x="2810160" y="5444640"/>
              <a:ext cx="647640" cy="7556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384720" y="5300640"/>
              <a:ext cx="755640" cy="325440"/>
            </a:xfrm>
            <a:prstGeom prst="rightArrow">
              <a:avLst>
                <a:gd name="adj1" fmla="val 50000"/>
                <a:gd name="adj2" fmla="val 58048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5451480" y="4473720"/>
            <a:ext cx="333360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1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6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6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83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500"/>
                            </p:stCondLst>
                            <p:childTnLst>
                              <p:par>
                                <p:cTn id="18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500"/>
                            </p:stCondLst>
                            <p:childTnLst>
                              <p:par>
                                <p:cTn id="2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162" name="">
            <a:hlinkClick r:id="rId2" action="ppaction://hlinksldjump"/>
          </p:cNvPr>
          <p:cNvSpPr/>
          <p:nvPr/>
        </p:nvSpPr>
        <p:spPr>
          <a:xfrm>
            <a:off x="0" y="0"/>
            <a:ext cx="7488360" cy="703440"/>
          </a:xfrm>
          <a:prstGeom prst="rect">
            <a:avLst/>
          </a:prstGeom>
          <a:solidFill>
            <a:srgbClr val="ffff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6e0e0"/>
                </a:solidFill>
                <a:latin typeface="黑体"/>
                <a:ea typeface="黑体"/>
              </a:rPr>
              <a:t>长安人阿诺小姐的一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84360" y="1197000"/>
            <a:ext cx="511164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首先，早起穿衣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3"/>
          <a:stretch/>
        </p:blipFill>
        <p:spPr>
          <a:xfrm>
            <a:off x="1403280" y="2050920"/>
            <a:ext cx="6408720" cy="480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8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23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0" y="27000"/>
            <a:ext cx="9144000" cy="68310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819680" cy="68580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5003640" y="765000"/>
            <a:ext cx="3816360" cy="3311640"/>
          </a:xfrm>
          <a:prstGeom prst="cloudCallout">
            <a:avLst>
              <a:gd name="adj1" fmla="val -99375"/>
              <a:gd name="adj2" fmla="val -829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吃早饭后去使用一下最新机器——</a:t>
            </a:r>
            <a:r>
              <a:rPr b="1" lang="zh-CN" sz="3200" spc="-1" strike="noStrike">
                <a:solidFill>
                  <a:srgbClr val="a50021"/>
                </a:solidFill>
                <a:latin typeface="Times New Roman"/>
                <a:ea typeface="黑体"/>
              </a:rPr>
              <a:t>提花机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，看好不好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-360" y="6092640"/>
            <a:ext cx="2050920" cy="765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6e0e0"/>
                </a:solidFill>
                <a:latin typeface="Arial Black"/>
              </a:rPr>
              <a:t>提花机</a:t>
            </a:r>
            <a:endParaRPr b="0" lang="en-US" sz="2800" spc="-1" strike="noStrike">
              <a:solidFill>
                <a:srgbClr val="336666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284720" y="692280"/>
            <a:ext cx="4859280" cy="616572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0" y="336600"/>
            <a:ext cx="4049640" cy="652140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4356000" y="0"/>
            <a:ext cx="45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现代社会的提花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0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500"/>
                            </p:stCondLst>
                            <p:childTnLst>
                              <p:par>
                                <p:cTn id="23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41" dur="1" fill="hold"/>
                                  <p:tgtEl>
                                    <p:spTgt spid="17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4788000" y="0"/>
            <a:ext cx="4356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108000" y="1052640"/>
            <a:ext cx="4284720" cy="3384360"/>
          </a:xfrm>
          <a:prstGeom prst="cloudCallout">
            <a:avLst>
              <a:gd name="adj1" fmla="val 99092"/>
              <a:gd name="adj2" fmla="val -2190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带上</a:t>
            </a:r>
            <a:r>
              <a:rPr b="1" lang="zh-CN" sz="3600" spc="-1" strike="noStrike">
                <a:solidFill>
                  <a:srgbClr val="a50021"/>
                </a:solidFill>
                <a:latin typeface="Times New Roman"/>
                <a:ea typeface="黑体"/>
              </a:rPr>
              <a:t>五铢钱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，去西市看看，买把好剑给父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79280" y="189000"/>
            <a:ext cx="327672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然后去逛街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395280" y="3068640"/>
            <a:ext cx="234000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a50021"/>
                </a:solidFill>
                <a:latin typeface="Times New Roman"/>
                <a:ea typeface="黑体"/>
              </a:rPr>
              <a:t>五铢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166920" y="1914480"/>
            <a:ext cx="5977080" cy="494352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-36360" y="-27000"/>
            <a:ext cx="3168360" cy="316872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3"/>
          <a:stretch/>
        </p:blipFill>
        <p:spPr>
          <a:xfrm>
            <a:off x="-36360" y="3716280"/>
            <a:ext cx="3168360" cy="312264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3348000" y="189000"/>
            <a:ext cx="554508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汉武帝时将地方的铸币权河盐铁经营权收归中央，统一铸造五铢钱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0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3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8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506320" y="271800"/>
            <a:ext cx="4343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6666"/>
                </a:solidFill>
                <a:latin typeface="Arial Black"/>
              </a:rPr>
              <a:t>一、农业生产的发展</a:t>
            </a:r>
            <a:endParaRPr b="0" lang="en-US" sz="36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1" name=""/>
          <p:cNvSpPr/>
          <p:nvPr/>
        </p:nvSpPr>
        <p:spPr>
          <a:xfrm>
            <a:off x="457200" y="1111680"/>
            <a:ext cx="335268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6666"/>
                </a:solidFill>
                <a:latin typeface="黑体"/>
                <a:ea typeface="黑体"/>
              </a:rPr>
              <a:t>1</a:t>
            </a:r>
            <a:r>
              <a:rPr b="0" lang="zh-CN" sz="3600" spc="-1" strike="noStrike">
                <a:solidFill>
                  <a:srgbClr val="336666"/>
                </a:solidFill>
                <a:latin typeface="黑体"/>
                <a:ea typeface="黑体"/>
              </a:rPr>
              <a:t>、</a:t>
            </a:r>
            <a:r>
              <a:rPr b="0" lang="zh-CN" sz="3600" spc="-1" strike="noStrike" u="sng">
                <a:solidFill>
                  <a:srgbClr val="000000"/>
                </a:solidFill>
                <a:uFillTx/>
                <a:latin typeface="黑体"/>
                <a:ea typeface="黑体"/>
                <a:hlinkClick r:id="rId1" action="ppaction://hlinksldjump"/>
              </a:rPr>
              <a:t>黄河的治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43000" y="1844640"/>
            <a:ext cx="2813040" cy="71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000000"/>
                </a:solidFill>
                <a:uFillTx/>
                <a:latin typeface="Arial"/>
                <a:hlinkClick r:id="rId2" action="ppaction://hlinksldjump"/>
              </a:rPr>
              <a:t>汉武帝治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693080" y="2502000"/>
            <a:ext cx="216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东汉明帝治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291560" y="2514600"/>
            <a:ext cx="287856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000000"/>
                </a:solidFill>
                <a:uFillTx/>
                <a:latin typeface="Arial"/>
                <a:ea typeface="黑体"/>
                <a:hlinkClick r:id="rId3" action="ppaction://hlinksldjump"/>
              </a:rPr>
              <a:t>——</a:t>
            </a:r>
            <a:r>
              <a:rPr b="0" lang="zh-CN" sz="3600" spc="-1" strike="noStrike" u="sng">
                <a:solidFill>
                  <a:srgbClr val="000000"/>
                </a:solidFill>
                <a:uFillTx/>
                <a:latin typeface="Arial"/>
                <a:ea typeface="黑体"/>
                <a:hlinkClick r:id="rId4" action="ppaction://hlinksldjump"/>
              </a:rPr>
              <a:t>王景主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57200" y="3157920"/>
            <a:ext cx="33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6666"/>
                </a:solidFill>
                <a:latin typeface="黑体"/>
                <a:ea typeface="黑体"/>
              </a:rPr>
              <a:t>2</a:t>
            </a:r>
            <a:r>
              <a:rPr b="0" lang="zh-CN" sz="3600" spc="-1" strike="noStrike">
                <a:solidFill>
                  <a:srgbClr val="336666"/>
                </a:solidFill>
                <a:latin typeface="黑体"/>
                <a:ea typeface="黑体"/>
              </a:rPr>
              <a:t>、农业的进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418760" y="3817800"/>
            <a:ext cx="134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耕犁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843640" y="3809880"/>
            <a:ext cx="196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安装犁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>
            <a:hlinkClick r:id="rId5" action="ppaction://hlinksldjump"/>
          </p:cNvPr>
          <p:cNvSpPr/>
          <p:nvPr/>
        </p:nvSpPr>
        <p:spPr>
          <a:xfrm>
            <a:off x="5083920" y="3809880"/>
            <a:ext cx="251280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000000"/>
                </a:solidFill>
                <a:uFillTx/>
                <a:latin typeface="Arial"/>
                <a:ea typeface="黑体"/>
                <a:hlinkClick r:id="rId6" action="ppaction://hlinksldjump"/>
              </a:rPr>
              <a:t>二牛抬杠耕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418760" y="4475160"/>
            <a:ext cx="134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耧车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43640" y="4495680"/>
            <a:ext cx="196416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000000"/>
                </a:solidFill>
                <a:uFillTx/>
                <a:latin typeface="Arial"/>
                <a:ea typeface="黑体"/>
                <a:hlinkClick r:id="rId7" action="ppaction://hlinksldjump"/>
              </a:rPr>
              <a:t>播种工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640240" y="5132520"/>
            <a:ext cx="73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南水稻、北小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693080" y="5791320"/>
            <a:ext cx="216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桑麻广泛种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1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3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8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8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3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0" y="12600"/>
            <a:ext cx="9144000" cy="684540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0" y="0"/>
            <a:ext cx="2808360" cy="642600"/>
          </a:xfrm>
          <a:prstGeom prst="rect">
            <a:avLst/>
          </a:prstGeom>
          <a:noFill/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坐上马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240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108000" y="115920"/>
            <a:ext cx="41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街道好繁华哦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54688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5580000" y="333360"/>
            <a:ext cx="3240000" cy="58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3366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663366"/>
                </a:solidFill>
                <a:latin typeface="黑体"/>
                <a:ea typeface="黑体"/>
              </a:rPr>
              <a:t>汉长安城位于今西安市西北的汉城一带，城门</a:t>
            </a:r>
            <a:r>
              <a:rPr b="1" lang="zh-CN" sz="2800" spc="-1" strike="noStrike">
                <a:solidFill>
                  <a:srgbClr val="663366"/>
                </a:solidFill>
                <a:latin typeface="黑体"/>
                <a:ea typeface="黑体"/>
              </a:rPr>
              <a:t>12</a:t>
            </a:r>
            <a:r>
              <a:rPr b="1" lang="zh-CN" sz="2800" spc="-1" strike="noStrike">
                <a:solidFill>
                  <a:srgbClr val="663366"/>
                </a:solidFill>
                <a:latin typeface="黑体"/>
                <a:ea typeface="黑体"/>
              </a:rPr>
              <a:t>个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3366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663366"/>
                </a:solidFill>
                <a:latin typeface="黑体"/>
                <a:ea typeface="黑体"/>
              </a:rPr>
              <a:t>手工业作坊和集市大多聚集在城的西北部；城内街道均东西和南北向排列，十分整齐壮观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3366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663366"/>
                </a:solidFill>
                <a:latin typeface="黑体"/>
                <a:ea typeface="黑体"/>
              </a:rPr>
              <a:t>这是我国历史上第一座规模最大的城市，当时世界上只有欧洲的罗马城可以与之媲美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3366"/>
                </a:solidFill>
                <a:latin typeface="黑体"/>
                <a:ea typeface="黑体"/>
              </a:rPr>
              <a:t>      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0" y="1268280"/>
            <a:ext cx="9144000" cy="558972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7880400" y="0"/>
            <a:ext cx="1263600" cy="19890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5920"/>
            <a:ext cx="5651640" cy="1225440"/>
          </a:xfrm>
          <a:prstGeom prst="cloudCallout">
            <a:avLst>
              <a:gd name="adj1" fmla="val 87078"/>
              <a:gd name="adj2" fmla="val -582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24000" y="260280"/>
            <a:ext cx="518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到了冶炼铁兵器的地方，听说以前都是用人力来鼓风冶铁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  <p:sndAc>
      <p:stSnd>
        <p:snd r:embed="rId3" name="push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333360"/>
            <a:ext cx="9144000" cy="417528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0" y="45687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黑体"/>
                <a:ea typeface="黑体"/>
              </a:rPr>
              <a:t>东汉时，南阳太守杜诗，发明了利用水力鼓风冶铁的水排。节约了人力，也提高了冶铁质量这种水排一直沿用到唐代。它的使用要比欧洲早</a:t>
            </a:r>
            <a:r>
              <a:rPr b="1" lang="zh-CN" sz="3600" spc="-1" strike="noStrike">
                <a:solidFill>
                  <a:srgbClr val="ff0066"/>
                </a:solidFill>
                <a:latin typeface="黑体"/>
                <a:ea typeface="黑体"/>
              </a:rPr>
              <a:t>1000</a:t>
            </a:r>
            <a:r>
              <a:rPr b="1" lang="zh-CN" sz="3600" spc="-1" strike="noStrike">
                <a:solidFill>
                  <a:srgbClr val="ff0066"/>
                </a:solidFill>
                <a:latin typeface="黑体"/>
                <a:ea typeface="黑体"/>
              </a:rPr>
              <a:t>多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80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47520" y="0"/>
            <a:ext cx="9096480" cy="68580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0" y="-1440"/>
            <a:ext cx="9144000" cy="6860880"/>
          </a:xfrm>
          <a:prstGeom prst="rect">
            <a:avLst/>
          </a:prstGeom>
          <a:ln w="0">
            <a:noFill/>
          </a:ln>
        </p:spPr>
      </p:pic>
      <p:grpSp>
        <p:nvGrpSpPr>
          <p:cNvPr id="195" name=""/>
          <p:cNvGrpSpPr/>
          <p:nvPr/>
        </p:nvGrpSpPr>
        <p:grpSpPr>
          <a:xfrm>
            <a:off x="2987640" y="260280"/>
            <a:ext cx="3095640" cy="6241680"/>
            <a:chOff x="2987640" y="260280"/>
            <a:chExt cx="3095640" cy="6241680"/>
          </a:xfrm>
        </p:grpSpPr>
        <p:sp>
          <p:nvSpPr>
            <p:cNvPr id="196" name=""/>
            <p:cNvSpPr/>
            <p:nvPr/>
          </p:nvSpPr>
          <p:spPr>
            <a:xfrm>
              <a:off x="3238560" y="5859360"/>
              <a:ext cx="2540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9900ff"/>
                  </a:solidFill>
                  <a:latin typeface="Times New Roman"/>
                  <a:ea typeface="黑体"/>
                </a:rPr>
                <a:t>长信宫灯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7" name="" descr=""/>
            <p:cNvPicPr/>
            <p:nvPr/>
          </p:nvPicPr>
          <p:blipFill>
            <a:blip r:embed="rId3"/>
            <a:stretch/>
          </p:blipFill>
          <p:spPr>
            <a:xfrm>
              <a:off x="2987640" y="260280"/>
              <a:ext cx="3095640" cy="5689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8" name=""/>
          <p:cNvGrpSpPr/>
          <p:nvPr/>
        </p:nvGrpSpPr>
        <p:grpSpPr>
          <a:xfrm>
            <a:off x="6048360" y="0"/>
            <a:ext cx="3095640" cy="6354720"/>
            <a:chOff x="6048360" y="0"/>
            <a:chExt cx="3095640" cy="6354720"/>
          </a:xfrm>
        </p:grpSpPr>
        <p:pic>
          <p:nvPicPr>
            <p:cNvPr id="199" name="" descr=""/>
            <p:cNvPicPr/>
            <p:nvPr/>
          </p:nvPicPr>
          <p:blipFill>
            <a:blip r:embed="rId4"/>
            <a:stretch/>
          </p:blipFill>
          <p:spPr>
            <a:xfrm>
              <a:off x="6227640" y="765000"/>
              <a:ext cx="2916360" cy="558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"/>
            <p:cNvSpPr/>
            <p:nvPr/>
          </p:nvSpPr>
          <p:spPr>
            <a:xfrm>
              <a:off x="6048360" y="0"/>
              <a:ext cx="3095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9900ff"/>
                  </a:solidFill>
                  <a:latin typeface="Times New Roman"/>
                  <a:ea typeface="黑体"/>
                </a:rPr>
                <a:t>博山炉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1" name="" descr=""/>
          <p:cNvPicPr/>
          <p:nvPr/>
        </p:nvPicPr>
        <p:blipFill>
          <a:blip r:embed="rId5"/>
          <a:stretch/>
        </p:blipFill>
        <p:spPr>
          <a:xfrm>
            <a:off x="0" y="2276640"/>
            <a:ext cx="2195640" cy="458136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108000" y="476280"/>
            <a:ext cx="2735280" cy="1512720"/>
          </a:xfrm>
          <a:prstGeom prst="cloudCallout">
            <a:avLst>
              <a:gd name="adj1" fmla="val -5601"/>
              <a:gd name="adj2" fmla="val 1556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终于回到家了，掌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2133720" y="2438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042920" y="333360"/>
            <a:ext cx="7309080" cy="76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两汉经济为什么能得到很快发展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39640" y="2924280"/>
            <a:ext cx="561672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国家长期处于统一局面；统治者实行了一系列有利于发展经济的措施；科技的进步；水利的兴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726000" y="271800"/>
            <a:ext cx="1674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6666"/>
                </a:solidFill>
                <a:latin typeface="Arial Black"/>
              </a:rPr>
              <a:t>长安城</a:t>
            </a:r>
            <a:endParaRPr b="0" lang="en-US" sz="36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761080" cy="685800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1042920" y="2565360"/>
            <a:ext cx="720720" cy="395280"/>
          </a:xfrm>
          <a:prstGeom prst="wedgeRectCallout">
            <a:avLst>
              <a:gd name="adj1" fmla="val 110351"/>
              <a:gd name="adj2" fmla="val 26305"/>
            </a:avLst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西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979640" y="1844640"/>
            <a:ext cx="720720" cy="395280"/>
          </a:xfrm>
          <a:prstGeom prst="wedgeRectCallout">
            <a:avLst>
              <a:gd name="adj1" fmla="val 74226"/>
              <a:gd name="adj2" fmla="val 179717"/>
            </a:avLst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东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724360" y="115920"/>
            <a:ext cx="324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e0e0"/>
                </a:solidFill>
                <a:latin typeface="Times New Roman"/>
                <a:ea typeface="黑体"/>
              </a:rPr>
              <a:t>东市、西市为什么在城的西北角？又为什么用墙围起来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651640" y="3213000"/>
            <a:ext cx="32414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96000" y="2492280"/>
            <a:ext cx="33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答：汉朝实行抑商政策，所以长安的东、西两市不设在城中心，而设在西北角，并用墙围起来，以便于官府的控制和管理。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4716360" y="0"/>
            <a:ext cx="1295640" cy="167652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0" b="16711"/>
          <a:stretch/>
        </p:blipFill>
        <p:spPr>
          <a:xfrm>
            <a:off x="0" y="0"/>
            <a:ext cx="8893080" cy="57340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rcRect l="0" t="83300" r="0" b="0"/>
          <a:stretch/>
        </p:blipFill>
        <p:spPr>
          <a:xfrm>
            <a:off x="250920" y="5877000"/>
            <a:ext cx="8458200" cy="871560"/>
          </a:xfrm>
          <a:prstGeom prst="rect">
            <a:avLst/>
          </a:prstGeom>
          <a:ln w="0">
            <a:noFill/>
          </a:ln>
        </p:spPr>
      </p:pic>
      <p:sp>
        <p:nvSpPr>
          <p:cNvPr id="105" name="">
            <a:hlinkClick r:id="rId3" action="ppaction://hlinksldjump"/>
          </p:cNvPr>
          <p:cNvSpPr/>
          <p:nvPr/>
        </p:nvSpPr>
        <p:spPr>
          <a:xfrm>
            <a:off x="0" y="0"/>
            <a:ext cx="77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请你欣赏：</a:t>
            </a:r>
            <a:r>
              <a:rPr b="1" lang="zh-CN" sz="3600" spc="-1" strike="noStrike">
                <a:solidFill>
                  <a:srgbClr val="d6e0e0"/>
                </a:solidFill>
                <a:latin typeface="黑体"/>
                <a:ea typeface="黑体"/>
              </a:rPr>
              <a:t>黄河岸边农村的田园风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rcRect l="1202" t="1637" r="2801" b="5175"/>
          <a:stretch/>
        </p:blipFill>
        <p:spPr>
          <a:xfrm>
            <a:off x="0" y="0"/>
            <a:ext cx="89647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>
            <a:hlinkClick r:id="rId1" action="ppaction://hlinksldjump"/>
          </p:cNvPr>
          <p:cNvPicPr/>
          <p:nvPr/>
        </p:nvPicPr>
        <p:blipFill>
          <a:blip r:embed="rId2">
            <a:lum contrast="36000"/>
          </a:blip>
          <a:srcRect l="0" t="17030" r="0" b="0"/>
          <a:stretch/>
        </p:blipFill>
        <p:spPr>
          <a:xfrm>
            <a:off x="0" y="0"/>
            <a:ext cx="3967200" cy="479736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4356000" y="907920"/>
            <a:ext cx="4248360" cy="2233800"/>
          </a:xfrm>
          <a:prstGeom prst="cloudCallout">
            <a:avLst>
              <a:gd name="adj1" fmla="val -89648"/>
              <a:gd name="adj2" fmla="val 3173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朕要亲自治黄河，看它还决口不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116000" y="5157720"/>
            <a:ext cx="698328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结果：八十多年里，黄河下游没有发生过大水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476360" y="407664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黑体"/>
              </a:rPr>
              <a:t>汉武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5659560" y="2708280"/>
            <a:ext cx="3484440" cy="4149360"/>
            <a:chOff x="5659560" y="2708280"/>
            <a:chExt cx="3484440" cy="4149360"/>
          </a:xfrm>
        </p:grpSpPr>
        <p:pic>
          <p:nvPicPr>
            <p:cNvPr id="113" name="" descr=""/>
            <p:cNvPicPr/>
            <p:nvPr/>
          </p:nvPicPr>
          <p:blipFill>
            <a:blip r:embed="rId1"/>
            <a:stretch/>
          </p:blipFill>
          <p:spPr>
            <a:xfrm>
              <a:off x="5715000" y="2708280"/>
              <a:ext cx="3429000" cy="414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5659560" y="6142320"/>
              <a:ext cx="1415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王景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-56520" y="-1033560"/>
            <a:ext cx="3298320" cy="5353200"/>
            <a:chOff x="-56520" y="-1033560"/>
            <a:chExt cx="3298320" cy="5353200"/>
          </a:xfrm>
        </p:grpSpPr>
        <p:pic>
          <p:nvPicPr>
            <p:cNvPr id="116" name="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3241800" cy="431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-56520" y="-1033560"/>
              <a:ext cx="667800" cy="472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汉明帝刘庄画像</a:t>
              </a:r>
              <a:r>
                <a:rPr b="0" lang="zh-CN" sz="2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"/>
          <p:cNvSpPr/>
          <p:nvPr/>
        </p:nvSpPr>
        <p:spPr>
          <a:xfrm>
            <a:off x="2916360" y="1341360"/>
            <a:ext cx="4680000" cy="865440"/>
          </a:xfrm>
          <a:prstGeom prst="cloudCallout">
            <a:avLst>
              <a:gd name="adj1" fmla="val -71777"/>
              <a:gd name="adj2" fmla="val -7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你去修河吧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900000" y="5516640"/>
            <a:ext cx="4537080" cy="936720"/>
          </a:xfrm>
          <a:prstGeom prst="cloudCallout">
            <a:avLst>
              <a:gd name="adj1" fmla="val 85828"/>
              <a:gd name="adj2" fmla="val -5779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是，臣遵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116000" y="2924280"/>
            <a:ext cx="6696000" cy="642600"/>
          </a:xfrm>
          <a:prstGeom prst="rect">
            <a:avLst/>
          </a:prstGeom>
          <a:solidFill>
            <a:srgbClr val="ffffff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结果：以后八百多年里，黄河没有改道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05440"/>
          </a:xfrm>
          <a:prstGeom prst="rect">
            <a:avLst/>
          </a:prstGeom>
          <a:ln w="9360">
            <a:solidFill>
              <a:srgbClr val="a50021"/>
            </a:solidFill>
            <a:miter/>
          </a:ln>
        </p:spPr>
      </p:pic>
      <p:sp>
        <p:nvSpPr>
          <p:cNvPr id="122" name=""/>
          <p:cNvSpPr/>
          <p:nvPr/>
        </p:nvSpPr>
        <p:spPr>
          <a:xfrm>
            <a:off x="684360" y="5229360"/>
            <a:ext cx="7056360" cy="703440"/>
          </a:xfrm>
          <a:prstGeom prst="rect">
            <a:avLst/>
          </a:prstGeom>
          <a:solidFill>
            <a:srgbClr val="ffffff"/>
          </a:soli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二牛抬杠耕犁法，始于西汉，优点是节省劳力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0" y="0"/>
            <a:ext cx="4356000" cy="5013000"/>
            <a:chOff x="0" y="0"/>
            <a:chExt cx="4356000" cy="5013000"/>
          </a:xfrm>
        </p:grpSpPr>
        <p:pic>
          <p:nvPicPr>
            <p:cNvPr id="124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4356000" cy="501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"/>
            <p:cNvSpPr/>
            <p:nvPr/>
          </p:nvSpPr>
          <p:spPr>
            <a:xfrm>
              <a:off x="991800" y="4279320"/>
              <a:ext cx="183960" cy="51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4427640" y="0"/>
            <a:ext cx="4716360" cy="501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30864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0" y="6216480"/>
            <a:ext cx="864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二牛抬杠耕犁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UJUMAO</cp:lastModifiedBy>
  <dcterms:modified xsi:type="dcterms:W3CDTF">2015-01-26T01:12:25Z</dcterms:modified>
  <cp:revision>4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